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8.wmf" ContentType="image/x-wmf"/>
  <Override PartName="/ppt/media/image10.wmf" ContentType="image/x-wmf"/>
  <Override PartName="/ppt/media/image7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jpeg" ContentType="image/jpeg"/>
  <Override PartName="/ppt/media/image11.gif" ContentType="image/gi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166-E1DF-4D86-B186-794BED48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CBD-91D5-42ED-9877-12E01485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B40-1805-408F-8F20-31B440DA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F65-99E2-4174-B614-42F26B90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D7D9-F533-48A7-91D7-44DB110D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BDA7-B2BD-47D4-BB87-A7FA4D93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5558-D7C5-43E2-A643-3CCD498D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0558-B0C3-4165-A386-5FD967F8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11FF-6B4F-42F0-9BD8-6A90CC9E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8282-42F9-4758-AB71-AAD07A77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7EB7-6A4F-46E8-BB74-B3AC2E0D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955-BD35-40C6-A31F-97487ED3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D18D-03E4-4348-80CC-8A7FD9CC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58BB-F967-43FC-8602-0D024EDB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100E-4CBE-488F-8D54-57808C70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E7BC-2312-41AB-83A5-264E9BC1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39A1-249C-452A-A2B0-D86253C7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4C9-270A-4552-BC63-E4AF0D37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333-A807-49F9-8787-875FEE87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2FD-8026-4C34-AB53-9FD34122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9F1B-F5CD-4766-B4FA-AA3BEB98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68A-B3E4-4E82-BC69-C2CF501D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1D41-BA13-4616-9B4D-88B073EF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62C-A0E5-40FF-9FA8-83921805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9BAF-A836-4D58-8E04-39F24EDE0B6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BA6B-8D75-4744-B7E5-1021AC7B5A9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0" spc="-1" strike="noStrike">
                <a:solidFill>
                  <a:srgbClr val="ffffcc"/>
                </a:solidFill>
                <a:latin typeface="Arial"/>
              </a:rPr>
              <a:t>Powerpoint</a:t>
            </a:r>
            <a:br>
              <a:rPr sz="5700"/>
            </a:b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Ramb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892160" cy="199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203560" y="2565360"/>
            <a:ext cx="3305160" cy="3430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156360" y="2421000"/>
            <a:ext cx="21589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Because . . 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0" y="1844280"/>
            <a:ext cx="398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Bor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Confus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322880" cy="1728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3600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2-4 Key Poi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1.   ABC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2. DE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3. GH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8223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cc"/>
                </a:solidFill>
                <a:latin typeface="Arial"/>
              </a:rPr>
              <a:t>Simplicity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715920"/>
            <a:ext cx="8229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AU" sz="4000" spc="-1" strike="noStrike">
                <a:solidFill>
                  <a:srgbClr val="eaeaea"/>
                </a:solidFill>
                <a:latin typeface="Verdana"/>
              </a:rPr>
              <a:t>Everything should be made as simple as possible but not simpler” – Einstei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What the . . . .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1600200"/>
            <a:ext cx="4038120" cy="2188800"/>
            <a:chOff x="457200" y="1600200"/>
            <a:chExt cx="4038120" cy="2188800"/>
          </a:xfrm>
        </p:grpSpPr>
        <p:cxnSp>
          <p:nvCxnSpPr>
            <p:cNvPr id="157" name="_s20493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2963880" y="1987200"/>
              <a:ext cx="438480" cy="1414080"/>
            </a:xfrm>
            <a:prstGeom prst="bentConnector3">
              <a:avLst>
                <a:gd name="adj1" fmla="val 2087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0" name="_s20492"/>
            <p:cNvCxnSpPr>
              <a:stCxn id="161" idx="0"/>
              <a:endCxn id="159" idx="2"/>
            </p:cNvCxnSpPr>
            <p:nvPr/>
          </p:nvCxnSpPr>
          <p:spPr>
            <a:xfrm flipV="1">
              <a:off x="2476080" y="2475360"/>
              <a:ext cx="1800" cy="4384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2" name="_s20491"/>
            <p:cNvCxnSpPr>
              <a:stCxn id="163" idx="0"/>
              <a:endCxn id="159" idx="2"/>
            </p:cNvCxnSpPr>
            <p:nvPr/>
          </p:nvCxnSpPr>
          <p:spPr>
            <a:xfrm flipH="1" flipV="1" rot="5400000">
              <a:off x="1550160" y="1987560"/>
              <a:ext cx="438480" cy="1414080"/>
            </a:xfrm>
            <a:prstGeom prst="bentConnector3">
              <a:avLst>
                <a:gd name="adj1" fmla="val 2087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59" name="_s20487"/>
            <p:cNvSpPr/>
            <p:nvPr/>
          </p:nvSpPr>
          <p:spPr>
            <a:xfrm>
              <a:off x="1870560" y="1600200"/>
              <a:ext cx="1211400" cy="875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eaeaea"/>
                  </a:solidFill>
                  <a:latin typeface="Verdana"/>
                </a:rPr>
                <a:t>So if we start here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3" name="_s20488"/>
            <p:cNvSpPr/>
            <p:nvPr/>
          </p:nvSpPr>
          <p:spPr>
            <a:xfrm>
              <a:off x="457200" y="2913480"/>
              <a:ext cx="1211400" cy="875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eaeaea"/>
                  </a:solidFill>
                  <a:latin typeface="Verdana"/>
                </a:rPr>
                <a:t>Then look at this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1" name="_s20489"/>
            <p:cNvSpPr/>
            <p:nvPr/>
          </p:nvSpPr>
          <p:spPr>
            <a:xfrm>
              <a:off x="1870560" y="2913480"/>
              <a:ext cx="1211400" cy="875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eaeaea"/>
                  </a:solidFill>
                  <a:latin typeface="Verdana"/>
                </a:rPr>
                <a:t>And have a read of this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_s20490"/>
            <p:cNvSpPr/>
            <p:nvPr/>
          </p:nvSpPr>
          <p:spPr>
            <a:xfrm>
              <a:off x="3283920" y="2913480"/>
              <a:ext cx="1211400" cy="875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eaeaea"/>
                  </a:solidFill>
                  <a:latin typeface="Verdana"/>
                </a:rPr>
                <a:t>We can now see 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aphicFrame>
        <p:nvGraphicFramePr>
          <p:cNvPr id="164" name=""/>
          <p:cNvGraphicFramePr/>
          <p:nvPr/>
        </p:nvGraphicFramePr>
        <p:xfrm>
          <a:off x="5025960" y="1600200"/>
          <a:ext cx="32814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5960" y="1600200"/>
                    <a:ext cx="32814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57200" y="3941640"/>
          <a:ext cx="4038480" cy="218916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09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XZ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$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B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ghui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6.7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?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892160" cy="1997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771640" y="350028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32360" y="4221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3357720"/>
            <a:ext cx="504720" cy="57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12000" y="3141720"/>
            <a:ext cx="1008000" cy="151272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684760" y="3941640"/>
            <a:ext cx="1967040" cy="1778040"/>
            <a:chOff x="5684760" y="3941640"/>
            <a:chExt cx="1967040" cy="1778040"/>
          </a:xfrm>
        </p:grpSpPr>
        <p:sp>
          <p:nvSpPr>
            <p:cNvPr id="173" name="_s20528"/>
            <p:cNvSpPr/>
            <p:nvPr/>
          </p:nvSpPr>
          <p:spPr>
            <a:xfrm flipH="1">
              <a:off x="6194160" y="5170320"/>
              <a:ext cx="236520" cy="1382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_s20527"/>
            <p:cNvSpPr/>
            <p:nvPr/>
          </p:nvSpPr>
          <p:spPr>
            <a:xfrm>
              <a:off x="5684760" y="5171760"/>
              <a:ext cx="547920" cy="5479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eaeaea"/>
                  </a:solidFill>
                  <a:latin typeface="Verdana"/>
                </a:rPr>
                <a:t>RTO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_s20526"/>
            <p:cNvSpPr/>
            <p:nvPr/>
          </p:nvSpPr>
          <p:spPr>
            <a:xfrm>
              <a:off x="6902640" y="5171760"/>
              <a:ext cx="237960" cy="1368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_s20525"/>
            <p:cNvSpPr/>
            <p:nvPr/>
          </p:nvSpPr>
          <p:spPr>
            <a:xfrm>
              <a:off x="7104240" y="5171760"/>
              <a:ext cx="547560" cy="5479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eaeaea"/>
                  </a:solidFill>
                  <a:latin typeface="Verdana"/>
                </a:rPr>
                <a:t>GDP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_s20524"/>
            <p:cNvSpPr/>
            <p:nvPr/>
          </p:nvSpPr>
          <p:spPr>
            <a:xfrm flipV="1">
              <a:off x="6667560" y="4487400"/>
              <a:ext cx="0" cy="2746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_s20523"/>
            <p:cNvSpPr/>
            <p:nvPr/>
          </p:nvSpPr>
          <p:spPr>
            <a:xfrm>
              <a:off x="6394680" y="3941640"/>
              <a:ext cx="547560" cy="5475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eaeaea"/>
                  </a:solidFill>
                  <a:latin typeface="Verdana"/>
                </a:rPr>
                <a:t>Y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" name="_s20522"/>
            <p:cNvSpPr/>
            <p:nvPr/>
          </p:nvSpPr>
          <p:spPr>
            <a:xfrm>
              <a:off x="6394680" y="4762440"/>
              <a:ext cx="547560" cy="5475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eaeaea"/>
                  </a:solidFill>
                  <a:latin typeface="Verdana"/>
                </a:rPr>
                <a:t>X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716360" y="4869000"/>
            <a:ext cx="863640" cy="647640"/>
          </a:xfrm>
          <a:prstGeom prst="leftArrow">
            <a:avLst>
              <a:gd name="adj1" fmla="val 50000"/>
              <a:gd name="adj2" fmla="val 33338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HOW MUCH TO BREAK THE SLIDE INTO A FEW SLIDE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357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8360" y="3138480"/>
            <a:ext cx="80643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600" spc="-1" strike="noStrike">
                <a:solidFill>
                  <a:srgbClr val="ffffcc"/>
                </a:solidFill>
                <a:latin typeface="Arial"/>
              </a:rPr>
              <a:t>$0.00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Showti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436536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0498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cc"/>
                </a:solidFill>
                <a:latin typeface="Arial"/>
              </a:rPr>
              <a:t>Rehearse. Rehearse. And Again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35280" y="1628640"/>
            <a:ext cx="6851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eaeaea"/>
                </a:solidFill>
                <a:latin typeface="Verdana"/>
              </a:rPr>
              <a:t>Try one of these: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1822320" cy="1901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195640" y="3716280"/>
            <a:ext cx="4968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Or an emp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0480" y="1628640"/>
            <a:ext cx="7763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How to stop . . 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Verdana"/>
              </a:rPr>
              <a:t>Sleepines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Verdana"/>
              </a:rPr>
              <a:t>Lack of Interes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Verdana"/>
              </a:rPr>
              <a:t>Boredom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5450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Use these tips for plenty of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007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And Create . . 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eaeaea"/>
                </a:solidFill>
                <a:latin typeface="Verdana"/>
              </a:rPr>
              <a:t>An interested audience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5192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Mollie, Paul and Michael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We’ve been doing food this term. We have investigated many interesting things. Now we will show you what they a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771640" y="765000"/>
            <a:ext cx="5686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100" spc="-1" strike="noStrike">
                <a:solidFill>
                  <a:srgbClr val="ffffcc"/>
                </a:solidFill>
                <a:latin typeface="Arial"/>
              </a:rPr>
              <a:t>Hi. We are the Food Group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18921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ffffcc"/>
                </a:solidFill>
                <a:latin typeface="Arial"/>
              </a:rPr>
              <a:t>Food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27280" y="2491920"/>
            <a:ext cx="425916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Molli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Pau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Micha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822320" cy="1901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3168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800" spc="-1" strike="noStrike">
                <a:solidFill>
                  <a:srgbClr val="ffffcc"/>
                </a:solidFill>
                <a:latin typeface="Arial"/>
              </a:rPr>
              <a:t>Style</a:t>
            </a:r>
            <a:endParaRPr b="0" lang="en-US" sz="8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66064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Dulln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1892160" cy="1996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619280" y="2205000"/>
            <a:ext cx="554508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Show You C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488000" cy="3770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8223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600" spc="-1" strike="noStrike">
                <a:solidFill>
                  <a:srgbClr val="ffffcc"/>
                </a:solidFill>
                <a:latin typeface="Arial"/>
              </a:rPr>
              <a:t>Structure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7:32:53Z</dcterms:created>
  <dc:creator>Michael Bourke</dc:creator>
  <dc:description/>
  <dc:language>en-US</dc:language>
  <cp:lastModifiedBy>Michael Bourke</cp:lastModifiedBy>
  <dcterms:modified xsi:type="dcterms:W3CDTF">2009-06-08T19:38:26Z</dcterms:modified>
  <cp:revision>2</cp:revision>
  <dc:subject/>
  <dc:title>Slide 1</dc:title>
</cp:coreProperties>
</file>